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7D60-86BF-4FA0-9284-5632CC445F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galife.com.u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ravostok.ru/upload/information_system_1/3/0/2/item_3022/information_items_302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0CB1-3793-4FA1-8777-F3632A433C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115C-BD47-423E-BFBE-752806BB11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ivejournal.ru/static/files/photos/zoom/788_10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4F23-1233-42BC-9FAE-140800D8D9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F65-BE3D-4CD8-9744-CB1A829F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0B8-91B8-4157-8F0C-A09B70A7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2FC-E235-459B-AC7A-B1980761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2A3C-EE03-4173-B3B0-FA782926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8022-0974-4E63-B50F-E8DCBE76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D439-D2EC-45B1-AD22-4F4BF332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EF1D-8606-4980-9C5A-7BB9CCA4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DEDF-3F6F-4AC0-8736-AAE9B3AB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F9D3-14F6-4F6A-B98F-296ACF55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BA95-C240-4415-A523-E7111CE8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F85C-F5F7-47FE-9441-AA846F52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1D6-1817-4FD0-93CF-AD5A5F63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ACA2-0E97-4C90-B00B-14A29739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4D87-5B2E-416B-BF86-1A2D1CEE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B187-3584-4696-9791-D43D7B3E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E168-5677-4370-B195-F3960347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B64A-0CBE-4CC2-8A5B-46A74C2D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4F48F-D641-44D2-BE96-000A2248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4E3E9-CD64-4AF9-8B60-5DAE398E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BC796-8FF5-41F1-9202-FC63B325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8DEF-C10D-4A4D-9BE4-819DD4C6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6BFE5-1A7A-4615-A65C-AFD2FFF5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4A6-E230-4374-BF35-9F492290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DE66-B037-4082-AA1A-1EA58995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8C2D-77AD-4813-83C6-F41521BD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23634-ECA3-4FC5-A551-2E8A3CDF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5F33F-10CA-48FB-BB5C-DFC40AC4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ECCB2-69B3-446E-AE26-7B94388C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848D4-BBE0-49D6-8FF7-E2B21D52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E8A95-7C3E-4F51-BA0B-AA3F4D30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B874D-A190-44EB-8268-14B67006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F379A-C63E-4053-B303-DF7B53DB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D41FB-4896-41B8-AA84-A19A0784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95D-A05D-472D-84AC-E8FA6423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C5A10-9DF8-4DCC-9F37-8C002A98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CB25A-AA56-4D1E-8224-9625E7F6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FF1DA-B897-4E5D-B34E-C92774E3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15B20-EE48-4168-A7A4-0E6B99B4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4CEE7-368E-408F-854A-053963A2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2B42D-9AFC-471A-AC8F-669F78B6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BCC2F-0C9C-4F44-9B4B-103532DB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9A2AA-66DA-496D-88E7-CD3F40CD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3AC7C-AA75-4B77-81A4-AEC6C2D2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711-105D-45B0-94E6-BF4164E3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4B1-1097-49EA-87D8-32A2A014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70B-B5C4-4D8B-A04F-CCA8A79A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3AC-99E2-4B08-A97D-B4E94D95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7CA-4B19-4A15-B974-40FEAE32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F5AA-E897-413C-A738-53D973A47EA1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99EB-434A-4095-BEF7-19B0B6DE71CE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AEC8-623B-4DAA-842C-DB1AF8F41FBD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8B07-2455-40C4-BFB1-BEEA65A465D7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7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771480" y="476280"/>
            <a:ext cx="7602480" cy="1712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3"/>
          <a:stretch/>
        </p:blipFill>
        <p:spPr>
          <a:xfrm>
            <a:off x="539640" y="5578560"/>
            <a:ext cx="1152720" cy="785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5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39640" y="1413000"/>
            <a:ext cx="403560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0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</a:rPr>
              <a:t>МИЛОСТЫНЯ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</a:rPr>
              <a:t>ПОМОЩЬ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6520" y="731520"/>
            <a:ext cx="334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643280" y="1844640"/>
          <a:ext cx="3673800" cy="1368360"/>
        </p:xfrm>
        <a:graphic>
          <a:graphicData uri="http://schemas.openxmlformats.org/drawingml/2006/table">
            <a:tbl>
              <a:tblPr/>
              <a:tblGrid>
                <a:gridCol w="3673800"/>
              </a:tblGrid>
              <a:tr h="136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73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казание помощи, не вникая в пробле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284720" y="3573360"/>
          <a:ext cx="3887640" cy="2073240"/>
        </p:xfrm>
        <a:graphic>
          <a:graphicData uri="http://schemas.openxmlformats.org/drawingml/2006/table">
            <a:tbl>
              <a:tblPr/>
              <a:tblGrid>
                <a:gridCol w="3887640"/>
              </a:tblGrid>
              <a:tr h="2073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требует большей включённости в проблему,   которую пытается решить челове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300" name="Заголовок 2" descr=""/>
          <p:cNvPicPr/>
          <p:nvPr/>
        </p:nvPicPr>
        <p:blipFill>
          <a:blip r:embed="rId1"/>
          <a:stretch/>
        </p:blipFill>
        <p:spPr>
          <a:xfrm>
            <a:off x="804960" y="79200"/>
            <a:ext cx="758340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2" name="Непоседы - БЫТЬ ЧЕЛОВЕКОМ. Песня со смыслом..mp4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328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1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ПРИТЧА О СТАКАНЕ МОЛОКА.до слез.mp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7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http://festival.1september.ru/articles/512376/Image40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285840" y="383760"/>
            <a:ext cx="4786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ьте внимательными, вдруг кому-то нужна ваша помощь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ждите, когда вас попросят, а помогите нуждающимс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42920" y="1341000"/>
            <a:ext cx="684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1. Составить представление о таком понятии как «МИЛОСЕРДИЕ»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2.Научится анализировать поступки людей в разных жизненных ситуация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3.  Высказывать свою точку зрения, отстаивать собственное мнение, принимать чужое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50720" y="-231840"/>
            <a:ext cx="80042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"/>
          <p:cNvSpPr/>
          <p:nvPr/>
        </p:nvSpPr>
        <p:spPr>
          <a:xfrm>
            <a:off x="179280" y="171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rebuchet MS"/>
              </a:rPr>
              <a:t>МИЛ</a:t>
            </a:r>
            <a:r>
              <a:rPr b="1" lang="ru-RU" sz="60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1" lang="ru-RU" sz="6000" spc="-1" strike="noStrike">
                <a:solidFill>
                  <a:srgbClr val="c00000"/>
                </a:solidFill>
                <a:latin typeface="Trebuchet MS"/>
              </a:rPr>
              <a:t>СЕРД</a:t>
            </a:r>
            <a:r>
              <a:rPr b="1" lang="ru-RU" sz="6000" spc="-1" strike="noStrike">
                <a:solidFill>
                  <a:srgbClr val="000000"/>
                </a:solidFill>
                <a:latin typeface="Trebuchet MS"/>
              </a:rPr>
              <a:t>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719280" y="1700280"/>
            <a:ext cx="27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ердце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cc"/>
                </a:solidFill>
                <a:latin typeface="Calibri"/>
              </a:rPr>
              <a:t>милует любит жале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"/>
          <p:cNvSpPr/>
          <p:nvPr/>
        </p:nvSpPr>
        <p:spPr>
          <a:xfrm>
            <a:off x="844560" y="3549600"/>
            <a:ext cx="383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ИЛОСЕРД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737240" y="2125800"/>
            <a:ext cx="26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ЛОРАД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5964120" y="1293840"/>
            <a:ext cx="28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Р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6815160" y="386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Л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6753240" y="496872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2192400" y="2984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АГ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0"/>
          <p:cNvSpPr/>
          <p:nvPr/>
        </p:nvSpPr>
        <p:spPr>
          <a:xfrm>
            <a:off x="1039680" y="46832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504720" y="5562720"/>
            <a:ext cx="20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6311880" y="27144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2282760" y="274464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ВЕР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2762280" y="1125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СКОРЫС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2543040" y="1832040"/>
            <a:ext cx="15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6"/>
          <p:cNvSpPr/>
          <p:nvPr/>
        </p:nvSpPr>
        <p:spPr>
          <a:xfrm>
            <a:off x="4859280" y="3441600"/>
            <a:ext cx="16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17"/>
          <p:cNvSpPr/>
          <p:nvPr/>
        </p:nvSpPr>
        <p:spPr>
          <a:xfrm>
            <a:off x="6105600" y="5877000"/>
            <a:ext cx="22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Д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18"/>
          <p:cNvSpPr/>
          <p:nvPr/>
        </p:nvSpPr>
        <p:spPr>
          <a:xfrm>
            <a:off x="4043520" y="439092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ВНОДУШ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9"/>
          <p:cNvSpPr/>
          <p:nvPr/>
        </p:nvSpPr>
        <p:spPr>
          <a:xfrm>
            <a:off x="6858000" y="275436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АС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20"/>
          <p:cNvSpPr/>
          <p:nvPr/>
        </p:nvSpPr>
        <p:spPr>
          <a:xfrm>
            <a:off x="3892680" y="51465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21"/>
          <p:cNvSpPr/>
          <p:nvPr/>
        </p:nvSpPr>
        <p:spPr>
          <a:xfrm>
            <a:off x="2925720" y="588492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ЧАСТ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9" descr=""/>
          <p:cNvPicPr/>
          <p:nvPr/>
        </p:nvPicPr>
        <p:blipFill>
          <a:blip r:embed="rId2"/>
          <a:stretch/>
        </p:blipFill>
        <p:spPr>
          <a:xfrm>
            <a:off x="1116000" y="0"/>
            <a:ext cx="6885000" cy="6885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 rot="4272600">
            <a:off x="2672280" y="11800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АГ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3"/>
          <p:cNvSpPr/>
          <p:nvPr/>
        </p:nvSpPr>
        <p:spPr>
          <a:xfrm rot="4471200">
            <a:off x="4144320" y="5125320"/>
            <a:ext cx="25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РАД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4"/>
          <p:cNvSpPr/>
          <p:nvPr/>
        </p:nvSpPr>
        <p:spPr>
          <a:xfrm rot="2527800">
            <a:off x="5257080" y="444384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Л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5"/>
          <p:cNvSpPr/>
          <p:nvPr/>
        </p:nvSpPr>
        <p:spPr>
          <a:xfrm rot="17479800">
            <a:off x="3316680" y="518724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6"/>
          <p:cNvSpPr/>
          <p:nvPr/>
        </p:nvSpPr>
        <p:spPr>
          <a:xfrm rot="20047200">
            <a:off x="1512000" y="393228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7"/>
          <p:cNvSpPr/>
          <p:nvPr/>
        </p:nvSpPr>
        <p:spPr>
          <a:xfrm rot="2500800">
            <a:off x="1857600" y="177480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8"/>
          <p:cNvSpPr/>
          <p:nvPr/>
        </p:nvSpPr>
        <p:spPr>
          <a:xfrm rot="19146600">
            <a:off x="4950000" y="144504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9"/>
          <p:cNvSpPr/>
          <p:nvPr/>
        </p:nvSpPr>
        <p:spPr>
          <a:xfrm rot="718200">
            <a:off x="1587600" y="29509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ВЕР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0"/>
          <p:cNvSpPr/>
          <p:nvPr/>
        </p:nvSpPr>
        <p:spPr>
          <a:xfrm rot="19135800">
            <a:off x="2155320" y="4695480"/>
            <a:ext cx="24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СКОРЫС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1"/>
          <p:cNvSpPr/>
          <p:nvPr/>
        </p:nvSpPr>
        <p:spPr>
          <a:xfrm rot="1218600">
            <a:off x="5850360" y="34318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АС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2"/>
          <p:cNvSpPr/>
          <p:nvPr/>
        </p:nvSpPr>
        <p:spPr>
          <a:xfrm rot="20458800">
            <a:off x="5733360" y="226368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3"/>
          <p:cNvSpPr/>
          <p:nvPr/>
        </p:nvSpPr>
        <p:spPr>
          <a:xfrm rot="17026200">
            <a:off x="3888000" y="1116720"/>
            <a:ext cx="18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ЧАСТ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3645000" y="2522520"/>
            <a:ext cx="1852560" cy="1811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4"/>
          <a:stretch/>
        </p:blipFill>
        <p:spPr>
          <a:xfrm>
            <a:off x="36360" y="0"/>
            <a:ext cx="2936880" cy="2130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5"/>
          <a:stretch/>
        </p:blipFill>
        <p:spPr>
          <a:xfrm>
            <a:off x="6126120" y="3859200"/>
            <a:ext cx="3038400" cy="2940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645080" y="73152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Пальто_ История милосердия.mp4" descr=""/>
          <p:cNvPicPr/>
          <p:nvPr/>
        </p:nvPicPr>
        <p:blipFill>
          <a:blip r:embed="rId1"/>
          <a:stretch/>
        </p:blipFill>
        <p:spPr>
          <a:xfrm>
            <a:off x="-17640" y="54936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Эмпатия — не сочувствие, а понимание обстоятельств человека, даже если ты  сам никогда в них не был - ВОмске"/>
          <p:cNvPicPr/>
          <p:nvPr/>
        </p:nvPicPr>
        <p:blipFill>
          <a:blip r:embed="rId1"/>
          <a:stretch/>
        </p:blipFill>
        <p:spPr>
          <a:xfrm>
            <a:off x="2195640" y="2781360"/>
            <a:ext cx="6667200" cy="3600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70" name="Заголовок 1" descr=""/>
          <p:cNvPicPr/>
          <p:nvPr/>
        </p:nvPicPr>
        <p:blipFill>
          <a:blip r:embed="rId2"/>
          <a:stretch/>
        </p:blipFill>
        <p:spPr>
          <a:xfrm>
            <a:off x="725400" y="176040"/>
            <a:ext cx="79488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3"/>
          <p:cNvSpPr/>
          <p:nvPr/>
        </p:nvSpPr>
        <p:spPr>
          <a:xfrm>
            <a:off x="4737240" y="2125800"/>
            <a:ext cx="26748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5964120" y="1293840"/>
            <a:ext cx="284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2192400" y="298440"/>
            <a:ext cx="2133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2"/>
          <p:cNvSpPr/>
          <p:nvPr/>
        </p:nvSpPr>
        <p:spPr>
          <a:xfrm>
            <a:off x="6311880" y="271440"/>
            <a:ext cx="1836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4"/>
          <p:cNvSpPr/>
          <p:nvPr/>
        </p:nvSpPr>
        <p:spPr>
          <a:xfrm>
            <a:off x="2762280" y="1125360"/>
            <a:ext cx="280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15"/>
          <p:cNvSpPr/>
          <p:nvPr/>
        </p:nvSpPr>
        <p:spPr>
          <a:xfrm>
            <a:off x="2543040" y="1832040"/>
            <a:ext cx="1503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Рисунок 8" descr="1576.jpg"/>
          <p:cNvPicPr/>
          <p:nvPr/>
        </p:nvPicPr>
        <p:blipFill>
          <a:blip r:embed="rId2"/>
          <a:stretch/>
        </p:blipFill>
        <p:spPr>
          <a:xfrm>
            <a:off x="179280" y="189000"/>
            <a:ext cx="4121280" cy="35272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10" descr="-_xZdkZPpDE.jpg"/>
          <p:cNvPicPr/>
          <p:nvPr/>
        </p:nvPicPr>
        <p:blipFill>
          <a:blip r:embed="rId3"/>
          <a:stretch/>
        </p:blipFill>
        <p:spPr>
          <a:xfrm>
            <a:off x="179280" y="3645000"/>
            <a:ext cx="4148280" cy="30416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1" descr="miloserd500_1242722150.jpg"/>
          <p:cNvPicPr/>
          <p:nvPr/>
        </p:nvPicPr>
        <p:blipFill>
          <a:blip r:embed="rId4"/>
          <a:stretch/>
        </p:blipFill>
        <p:spPr>
          <a:xfrm>
            <a:off x="4500720" y="1071720"/>
            <a:ext cx="4344840" cy="3571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1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Box 3"/>
          <p:cNvSpPr/>
          <p:nvPr/>
        </p:nvSpPr>
        <p:spPr>
          <a:xfrm>
            <a:off x="4737240" y="2125800"/>
            <a:ext cx="26748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5964120" y="1293840"/>
            <a:ext cx="284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2192400" y="298440"/>
            <a:ext cx="2133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2"/>
          <p:cNvSpPr/>
          <p:nvPr/>
        </p:nvSpPr>
        <p:spPr>
          <a:xfrm>
            <a:off x="6311880" y="271440"/>
            <a:ext cx="1836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4"/>
          <p:cNvSpPr/>
          <p:nvPr/>
        </p:nvSpPr>
        <p:spPr>
          <a:xfrm>
            <a:off x="2762280" y="1125360"/>
            <a:ext cx="280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2543040" y="1832040"/>
            <a:ext cx="1503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8" descr="milostyna.jpg"/>
          <p:cNvPicPr/>
          <p:nvPr/>
        </p:nvPicPr>
        <p:blipFill>
          <a:blip r:embed="rId2"/>
          <a:stretch/>
        </p:blipFill>
        <p:spPr>
          <a:xfrm>
            <a:off x="1187280" y="1268280"/>
            <a:ext cx="4121280" cy="26434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0" descr="1444811.jpg"/>
          <p:cNvPicPr/>
          <p:nvPr/>
        </p:nvPicPr>
        <p:blipFill>
          <a:blip r:embed="rId3"/>
          <a:stretch/>
        </p:blipFill>
        <p:spPr>
          <a:xfrm>
            <a:off x="4716360" y="2637000"/>
            <a:ext cx="4049640" cy="285732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13"/>
          <p:cNvSpPr/>
          <p:nvPr/>
        </p:nvSpPr>
        <p:spPr>
          <a:xfrm>
            <a:off x="2771640" y="33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21a08"/>
                </a:solidFill>
                <a:latin typeface="Calibri"/>
              </a:rPr>
              <a:t>Милосты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Прямоугольник 16"/>
          <p:cNvSpPr/>
          <p:nvPr/>
        </p:nvSpPr>
        <p:spPr>
          <a:xfrm>
            <a:off x="971640" y="544500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омощь друго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человеку из жалости к не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202</cp:lastModifiedBy>
  <dcterms:modified xsi:type="dcterms:W3CDTF">2024-02-16T10:04:38Z</dcterms:modified>
  <cp:revision>170</cp:revision>
  <dc:subject/>
  <dc:title>Презентация PowerPoint</dc:title>
</cp:coreProperties>
</file>